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D18-D680-43EC-AF87-0707E9CE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185-23D8-4FDF-A724-64954F29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709-EB89-4D20-817E-37C8BE71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2C4-7358-444C-BA8E-CD3067F6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A11B-CDA0-4CEC-B4ED-274E4880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60D-0042-413D-B0FD-CCF41401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4864-6FA0-4441-830A-CA111FE0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A470-CED0-47C3-A266-3C48F097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4FED-8705-47A0-8ED8-9FFC029D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15C0-0762-4182-B663-5F4F234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C07C-10DA-4B96-AA0D-BDB57C3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555-2D2C-4703-94F5-367F2C55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0A65-4848-4CC5-857C-500914C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A841-F4FC-4004-8054-0C84A311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5122-5B22-4E7B-986E-4CB495E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19C3-85FD-4BE0-A7C3-1149D1A4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59E5-E0E3-43A6-90C7-602FEAEE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239-6124-4F2A-8C48-682EB2D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516-F210-4876-B53C-6BA52922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DB4-8687-426D-93D0-77EA3D2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3BF-D989-4442-9E64-683A6D61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53C-5C15-4AF8-BD6A-52E3A5E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468-18FB-42B4-9878-7CAECCA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D24-D743-47AF-9518-7BFEB29D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4147-1524-4919-979A-FDE793120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A199-AD6B-47F0-B09F-D2702E65D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Candy Dispenser Challe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99840" y="3962160"/>
            <a:ext cx="60325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22200" y="62485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ten by Roland Willi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5238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eer Areas Associated with Invention and Inno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ufactu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BD06768_"/>
          <p:cNvPicPr/>
          <p:nvPr/>
        </p:nvPicPr>
        <p:blipFill>
          <a:blip r:embed="rId1"/>
          <a:stretch/>
        </p:blipFill>
        <p:spPr>
          <a:xfrm>
            <a:off x="762120" y="2590920"/>
            <a:ext cx="4647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gineering Desig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eps in the process inclu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ng the challe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re id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 &amp; Devel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the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BD09857_"/>
          <p:cNvPicPr/>
          <p:nvPr/>
        </p:nvPicPr>
        <p:blipFill>
          <a:blip r:embed="rId1"/>
          <a:stretch/>
        </p:blipFill>
        <p:spPr>
          <a:xfrm>
            <a:off x="4952880" y="1981080"/>
            <a:ext cx="3772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totype is a full-size working model used to test a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types are often used in the automobile industry to develop new car and truck ideas to their fullest potential while carefully evaluating the designs’ strengths and weakne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BD10748_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371600" y="1143000"/>
            <a:ext cx="6553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ing in groups of 3 or 4, you will use the engineering design process to invent a new Candy Dispenser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e the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Candy Dispenser Design Brie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14600" y="51814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nk Safet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791320" y="6095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sign Brief: Candy Dispenser Design Brie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together in  collaborative and cooperative ways is not always eas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times you’ll have to work with people, who aren’t your frien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ing common ground is the best way to get the task done we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BS02094_"/>
          <p:cNvPicPr/>
          <p:nvPr/>
        </p:nvPicPr>
        <p:blipFill>
          <a:blip r:embed="rId1"/>
          <a:stretch/>
        </p:blipFill>
        <p:spPr>
          <a:xfrm>
            <a:off x="304920" y="2057400"/>
            <a:ext cx="40384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143000" y="23623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your Candy Dispenser to the clas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143000" y="23623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 your Candy Dispenser to the clas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219320" y="23623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steps are necessary to invent and construct a simple technological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GP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R-II-4: Students will invent or innovate a technological produ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R-II-6: Students will develop leadership skills and work ethi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Knowledge/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Construct a simple technological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Explain how your technological system oper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Describe the steps of the Engineering Design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23623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steps are necessary to invent and construct a simple technological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eat Thinker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ir Inven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ter Greenw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e Dicks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rence Cr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iam Russell Frisb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BD06727_"/>
          <p:cNvPicPr/>
          <p:nvPr/>
        </p:nvPicPr>
        <p:blipFill>
          <a:blip r:embed="rId1"/>
          <a:stretch/>
        </p:blipFill>
        <p:spPr>
          <a:xfrm>
            <a:off x="4610160" y="1897200"/>
            <a:ext cx="1658880" cy="147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M00172_"/>
          <p:cNvPicPr/>
          <p:nvPr/>
        </p:nvPicPr>
        <p:blipFill>
          <a:blip r:embed="rId2"/>
          <a:stretch/>
        </p:blipFill>
        <p:spPr>
          <a:xfrm>
            <a:off x="4038480" y="3809880"/>
            <a:ext cx="808200" cy="932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BD20094_"/>
          <p:cNvPicPr/>
          <p:nvPr/>
        </p:nvPicPr>
        <p:blipFill>
          <a:blip r:embed="rId3"/>
          <a:stretch/>
        </p:blipFill>
        <p:spPr>
          <a:xfrm>
            <a:off x="3886200" y="3962520"/>
            <a:ext cx="1862280" cy="1958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crystomintroll"/>
          <p:cNvPicPr/>
          <p:nvPr/>
        </p:nvPicPr>
        <p:blipFill>
          <a:blip r:embed="rId4"/>
          <a:stretch/>
        </p:blipFill>
        <p:spPr>
          <a:xfrm>
            <a:off x="5791320" y="3809880"/>
            <a:ext cx="1884240" cy="2132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frisbee1"/>
          <p:cNvPicPr/>
          <p:nvPr/>
        </p:nvPicPr>
        <p:blipFill>
          <a:blip r:embed="rId5"/>
          <a:stretch/>
        </p:blipFill>
        <p:spPr>
          <a:xfrm>
            <a:off x="6781680" y="2436840"/>
            <a:ext cx="1676520" cy="1660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3"/>
          <p:cNvSpPr/>
          <p:nvPr/>
        </p:nvSpPr>
        <p:spPr>
          <a:xfrm>
            <a:off x="1752480" y="5943600"/>
            <a:ext cx="80773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s were retrieved from http://z.about.com/d/inventors/1/0/P/5/frisbee1.jpg, http://www.candydirect.com/mints/Lifesavers-Rolls-CrystOMint.html,  and the                     Microsoft Clip Art Gall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FD01167_"/>
          <p:cNvPicPr/>
          <p:nvPr/>
        </p:nvPicPr>
        <p:blipFill>
          <a:blip r:embed="rId6"/>
          <a:stretch/>
        </p:blipFill>
        <p:spPr>
          <a:xfrm>
            <a:off x="6705720" y="2057400"/>
            <a:ext cx="16984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so important about all of this stuff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of every generation all around the world have increased their capability to do work and live well by inventing and innova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evelopment of any kind of technology is a human activity and is the result of someone having a problem, needing something new to fix the problem, and creating a solu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ntion requires a lot of patience and perseveran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is closely linked to creativity, which has resulted in innov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ntion is a process of turning ideas and imagination into devices and syste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so important about all of this stuf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tinu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novation is the process of modifying an existing product or system to improve 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novation often involves decreasing the overall capabilities of a product or system in order to increase its ability to perform a more narrow or specific task very efficiently. This 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ialization of fun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so important about all of this stuf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tinu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274320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products and systems can be developed to solve problems or to help do things that could not be done without the help of technolog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so important about all of this stuf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tinu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37:09Z</dcterms:created>
  <dc:creator>Pamela J. Brown</dc:creator>
  <dc:description/>
  <dc:language>en-US</dc:language>
  <cp:lastModifiedBy>Flanders</cp:lastModifiedBy>
  <dcterms:modified xsi:type="dcterms:W3CDTF">2010-02-01T21:21:12Z</dcterms:modified>
  <cp:revision>30</cp:revision>
  <dc:subject/>
  <dc:title>INVENTION</dc:title>
</cp:coreProperties>
</file>